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FCB-D982-4CBE-A9E2-9003FC80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700-E187-4810-9CB3-F188832F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72B-9A6A-41CF-AB7F-05B9F1D8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2EB-F918-4BA5-887C-BB031596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218-F5E0-4DB0-A241-9D5E671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42F-5007-4205-A83D-B7081B2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FE4-1878-419B-922D-C1153A8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FB8-05B2-4BED-B793-DE5FF23F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920" y="999720"/>
            <a:ext cx="8858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F81-2384-478E-AA2B-FC054C4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6BA-D5AA-4B99-84C0-435341A7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3E6-62EF-43F6-A642-54A7970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4B3-C73F-4EE2-B80D-970285E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1" marL="668520" indent="-2570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2" marL="1028520" indent="-205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3" marL="1440000" indent="-205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4" marL="1851480" indent="-205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413-2837-45AF-87F5-1C9A877D8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5490" t="6661" r="4995" b="7334"/>
          <a:stretch/>
        </p:blipFill>
        <p:spPr>
          <a:xfrm>
            <a:off x="142920" y="115920"/>
            <a:ext cx="8893080" cy="661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La </a:t>
            </a:r>
            <a:r>
              <a:rPr b="0" i="1" lang="it-IT" sz="4200" spc="-1" strike="noStrike">
                <a:solidFill>
                  <a:srgbClr val="10253f"/>
                </a:solidFill>
                <a:latin typeface="Calibri"/>
              </a:rPr>
              <a:t>“Supply Chain” </a:t>
            </a: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della Sicurezza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844640"/>
            <a:ext cx="7777080" cy="52056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E BEST PRACTICES IN ANSALDOB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997360"/>
            <a:ext cx="5329080" cy="148860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Resp. Sicurezza e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SALDO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BREDA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S.P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ing. Giuseppe Grazi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3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CLUSIONI E RISULTATI OTTENU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nno: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2009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N° infortuni: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Comic Sans MS"/>
              </a:rPr>
              <a:t>54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47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Giorni infortuni:207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64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605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RIDUZIONE TASSO INAI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581360"/>
            <a:ext cx="82296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uso.giuseppe@ansaldobreda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301320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ta Velo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205360"/>
            <a:ext cx="3851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FERROVIA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080" y="456912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c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6400" y="373068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680" y="550584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gionale / Sub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2280" y="1284120"/>
            <a:ext cx="54864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I NOSTRI PRODO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6520" y="2205000"/>
            <a:ext cx="4113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TRASPORTO URB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9040" y="293400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m / Metro Legg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9920" y="3605400"/>
            <a:ext cx="28339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0920" y="4327920"/>
            <a:ext cx="28195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 Auto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3240" y="519768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98680" y="4024440"/>
            <a:ext cx="1832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PRINCIPALI COMMESSE IN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74560" y="2000160"/>
          <a:ext cx="7828200" cy="3567240"/>
        </p:xfrm>
        <a:graphic>
          <a:graphicData uri="http://schemas.openxmlformats.org/drawingml/2006/table">
            <a:tbl>
              <a:tblPr/>
              <a:tblGrid>
                <a:gridCol w="1874880"/>
                <a:gridCol w="5953320"/>
              </a:tblGrid>
              <a:tr h="5558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RIO, TAF, MADRID BITENSIONE, E 403, CIRCUMVESUVIANA, BELGIO 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56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rre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ELGIO /OLANDA, E403, SIRIO, METROMIL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403, TSR, RATP, SIRIO, TAF, LOS ANGELES, E656, BELGIO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ei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 403, CIRCUMVESUVIANA, ETR500, METROBRESCIA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7774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LINEE PRODUTTIVE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710160" y="1403280"/>
            <a:ext cx="15015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Comic Sans MS"/>
              </a:rPr>
              <a:t>OFFIC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5840" y="2567160"/>
            <a:ext cx="7988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to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988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rel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12920" y="328608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8400" y="3286080"/>
            <a:ext cx="1197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pen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12920" y="3935520"/>
            <a:ext cx="9316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nt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08400" y="3862440"/>
            <a:ext cx="998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08400" y="4510080"/>
            <a:ext cx="1063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llest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0536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Elettro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9520" y="256536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Veico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9040" y="321300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Taglio cav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9040" y="3645000"/>
            <a:ext cx="12636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urba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3213000"/>
            <a:ext cx="1195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ssembl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9040" y="4508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locomo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9040" y="5516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alta velocit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9040" y="6453360"/>
            <a:ext cx="1195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Ripar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4360" y="204156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7644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1436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9040" y="20415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20415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9400" y="285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7120" y="285444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9400" y="3430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4078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3080" y="28544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3080" y="3430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3080" y="400536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3080" y="4654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854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7120" y="335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7120" y="3933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4870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7120" y="5878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7120" y="659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66000" y="3357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632640" y="39337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765840" y="4797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65840" y="5805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rcRect l="16791" t="0" r="0" b="8043"/>
          <a:stretch/>
        </p:blipFill>
        <p:spPr>
          <a:xfrm>
            <a:off x="7164360" y="4078440"/>
            <a:ext cx="1249560" cy="911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644920" y="4870440"/>
            <a:ext cx="1508040" cy="878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82800" y="4365720"/>
            <a:ext cx="1176120" cy="93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780000" y="5734080"/>
            <a:ext cx="1130040" cy="9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4343400" y="18558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BIETTIVI RIDUZIONE DEL NUMERO DEGLI INFORTUN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ALISI DEGLI INFORTUN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no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9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N° infortuni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54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iorni infortuni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7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640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125000"/>
            <a:ext cx="88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NALISI DETTAGLIATA INFORTUNI/INCIDEN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28640"/>
            <a:ext cx="85690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A EFFETTUATA UN’ANALISI DETTAGLIATA ED IMMEDIATA NON SOLO DEGLI INFORTUNI, MA ANCHE DEGLI INCIDENTI (MANCATI INFORTU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’ANALISI E’ STATA CONDOTTA DALL’ENTE SICUREZZA E AMBIENTE IN STRETTA COLLABORAZIONE CON I PREPOSTI DI REPA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O ISTITUITO UN MODELLO PER LE INDAGINI DEGLI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mic Sans MS"/>
              </a:rPr>
              <a:t>INFORTUNI/INCIDENTI,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DOVE IL PREPOSTO DEVE RIPORTARE LA DESCRIZIONE DELL’ACCADUTO E FIRMARE TALE DOC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212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ESPONSABILIZZAZIONE PREPOST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PECIFICO CORSO DI FORMAZIONE SU RUOLI COMPITI E RESPONSABILITA’ DEI PREPOST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ENTENZE DELLA CASSAZIONE CHE COINVOLGONO I PREPOSTI COMMENTATE DAGLI ISPETTORI DELLA ASL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PROIEZIONE DI FILMATI E IMMAGINI DEI REPARTI PRODUTTIVI CON EVIDENZA DELLE IMPERFEZION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183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2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300640"/>
            <a:ext cx="7129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RESA COSCIENZA DA PARTE DEI RESP. E PREPOSTI DELLE PROPRIE 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ARIO PREVENZIONAL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’ STATO MESSO A DISPOSIZIONE DEI PREPOSTI UNO STRUMENTO DI VERIFICA/CONTROLLO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000080"/>
            <a:ext cx="8858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ORMAZIONE ON THE JOB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’ STATA EFFETTUATA UNA  MASSICCIA CAMPAGNA DI INFORMAZIONE E FORMAZIONE CHE HA COINVOLTO IL MANAGEMENT, I RESPONSABILI, I PREPOSTI, GLI RLS E TUTTO IL PERSONALE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6280"/>
            <a:ext cx="5040360" cy="1996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NO STATI EFFETTUATI UNA SERIE DI INTERVENTI FORMATIV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 THE JOB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, SIA DA PARTE DELL’ENTE SICUREZZA SIA DA PARTE DEI PREP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07:23Z</dcterms:created>
  <dc:creator>Ing. Giuseppe Graziuso</dc:creator>
  <dc:description/>
  <dc:language>en-US</dc:language>
  <cp:lastModifiedBy>Graziuso Giuseppe</cp:lastModifiedBy>
  <dcterms:modified xsi:type="dcterms:W3CDTF">2010-01-20T21:26:55Z</dcterms:modified>
  <cp:revision>18</cp:revision>
  <dc:subject/>
  <dc:title>Convegno Città della Scienza</dc:title>
</cp:coreProperties>
</file>